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39920" y="547200"/>
            <a:ext cx="4116240" cy="308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287A-D763-4F07-B909-1D4D3A472B0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E2BB-3080-45D4-B8EA-9272C2B81B7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9826-1A26-40C9-8783-8079B65D041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E758-6BCC-4296-8AF9-9266617D04D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CD1F-36B9-4AB4-9F91-CF10A815A50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7617-D4E8-438C-9769-CC05B0C0AB6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8BAF-CDF8-471E-9A81-26AEC4EF2B8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980C-A2E1-492A-AC2F-3E462FA104C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5D8A-8CD0-427A-B15D-8BC9A73813F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9E3D-46B6-4455-8EE6-8F0DFDC2F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3068-7D34-4FA7-AED1-761EC0CA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54BC-FE25-45DF-ADE6-E1796AAB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68F2-B013-4475-8D31-29E945CDA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32A4-B56B-4708-962E-E4D9A440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FCCC-FBF1-411F-AF06-64C2890D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340F-FF0E-4726-B5EF-7407554F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90A5-4D8E-45B6-AAB2-2E9C2B7A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E65C-B029-4FE4-AA1D-92B94EC2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0B0F-5932-4B6C-9429-F079F734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CE33-A68A-4551-AC9B-F4347EEE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3934-6142-4C0F-AB9C-E30463FB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30.6.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0AC8-1715-45C7-A38C-6D48B0755F5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Jak vyplnit žádost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o finanční podporu z OP LZZ?</a:t>
            </a:r>
            <a:br>
              <a:rPr sz="3600"/>
            </a:br>
            <a:br>
              <a:rPr sz="1600"/>
            </a:br>
            <a:r>
              <a:rPr b="1" lang="cs-CZ" sz="2500" spc="-1" strike="noStrike">
                <a:solidFill>
                  <a:srgbClr val="14407e"/>
                </a:solidFill>
                <a:latin typeface="Arial"/>
              </a:rPr>
              <a:t>Seminář pro žadatele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600" spc="-1" strike="noStrike">
              <a:solidFill>
                <a:srgbClr val="d113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rojekt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32000" y="1125360"/>
            <a:ext cx="489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ákladní informace o programu, příslušném globálním grantu a výzvě  se uložením žádosti automaticky dopl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Zkontrolujte si, zda-li jste založili žádost ve správné výzvě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e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ioritní os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Oblasti podpor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 účetní jednot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ní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ojektu a Zkrácený název projekt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Název musí vystihovat stručně a jasně základní podstatu připravovaných aktiv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ojektu anglick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ňte název projektu v AJ. </a:t>
            </a: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Je nepřípustné, aby žadatel v tomto poli uvedl pomlčku nebo jiný zástupný znak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358920" y="1197000"/>
            <a:ext cx="3673440" cy="4321080"/>
          </a:xfrm>
          <a:prstGeom prst="rect">
            <a:avLst/>
          </a:prstGeom>
          <a:ln w="0">
            <a:noFill/>
          </a:ln>
        </p:spPr>
      </p:pic>
      <p:sp>
        <p:nvSpPr>
          <p:cNvPr id="94" name="Obdélník 1"/>
          <p:cNvSpPr/>
          <p:nvPr/>
        </p:nvSpPr>
        <p:spPr>
          <a:xfrm>
            <a:off x="395280" y="2384280"/>
            <a:ext cx="3456000" cy="324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rojekt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95640" y="1160280"/>
            <a:ext cx="489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níte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dpokládané datum zahájení realizace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Předpokládané datum ukončení realizace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níte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ručný obsah projektu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j.  význam projektu, cíle, přínosy projektu a smysluplno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zaškrtnete příslušný checkbox, který je pro váš projekt relevantní. Ponecháte-li checkbox prázdný, znamená to 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zatržení checkboxu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ojekt vychází z IPRM,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se automaticky zpovinní (zažlutí)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IPRM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aktivity IPRM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viz předchozí stran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Všechna žlutá pole jsou povinná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744720" cy="3637080"/>
          </a:xfrm>
          <a:prstGeom prst="rect">
            <a:avLst/>
          </a:prstGeom>
          <a:ln w="0">
            <a:noFill/>
          </a:ln>
        </p:spPr>
      </p:pic>
      <p:sp>
        <p:nvSpPr>
          <p:cNvPr id="98" name="Obdélník 1"/>
          <p:cNvSpPr/>
          <p:nvPr/>
        </p:nvSpPr>
        <p:spPr>
          <a:xfrm>
            <a:off x="431640" y="3537000"/>
            <a:ext cx="3492720" cy="1341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4334040" y="4535640"/>
            <a:ext cx="3095640" cy="68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1640" y="29664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Žadatel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47640" y="1160280"/>
            <a:ext cx="44643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vním krokem k zadání organizace žadatele je vyplnění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Č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Kliknutím na tlačítk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lidace ARES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zahájen proces validace organizace, jehož výsledkem je načtení základních informací z IS MF ČR A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číselníku vyber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 žadatel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omezení je stanoveno výzvou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ňte stručnou charakteristiku organizace do textového pol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ručná charakteristika organizace a zkušenosti v oblasti zaměření projektu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záznam uložte (tlačítko Uložit)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následující 2 záložky, vážící se k žadateli, tj.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dresa žadatel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Osoby žadatel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"/>
          <p:cNvPicPr/>
          <p:nvPr/>
        </p:nvPicPr>
        <p:blipFill>
          <a:blip r:embed="rId1"/>
          <a:stretch/>
        </p:blipFill>
        <p:spPr>
          <a:xfrm>
            <a:off x="295200" y="1160640"/>
            <a:ext cx="3927600" cy="432108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22"/>
          <p:cNvGrpSpPr/>
          <p:nvPr/>
        </p:nvGrpSpPr>
        <p:grpSpPr>
          <a:xfrm>
            <a:off x="449280" y="2241720"/>
            <a:ext cx="2475000" cy="358560"/>
            <a:chOff x="449280" y="2241720"/>
            <a:chExt cx="2475000" cy="358560"/>
          </a:xfrm>
        </p:grpSpPr>
        <p:sp>
          <p:nvSpPr>
            <p:cNvPr id="104" name="Rectangle 23"/>
            <p:cNvSpPr/>
            <p:nvPr/>
          </p:nvSpPr>
          <p:spPr>
            <a:xfrm>
              <a:off x="449280" y="2241720"/>
              <a:ext cx="719280" cy="35856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4"/>
            <p:cNvSpPr/>
            <p:nvPr/>
          </p:nvSpPr>
          <p:spPr>
            <a:xfrm>
              <a:off x="1178280" y="2414520"/>
              <a:ext cx="9000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5"/>
            <p:cNvSpPr/>
            <p:nvPr/>
          </p:nvSpPr>
          <p:spPr>
            <a:xfrm>
              <a:off x="2060640" y="2325600"/>
              <a:ext cx="863640" cy="25200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5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artner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248000" y="1015920"/>
            <a:ext cx="46800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aktivní pouze v případě, že žadatel zatrhl na záložce Projekt checkbox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stup je obdobný jako na zál. Žadatale projektu. Vyplní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Č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odešle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lidaci ARES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údaje o organizaci partnera projektu se dopl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máte do projektu zapojeného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zahraničního partner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je možné na žádost žadatele tuto validaci na ARES a UIR-ADR vypnout. V tomto případě je postup následujíc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žadatel požádá o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vypnutí validace na hotline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adres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benefit7@mpsv.cz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, kde uved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IČ zahr. partnera, Název organizace a Stát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Ze strany ŘO dojde k vypnutí validace d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působ zapojení partnerů do realizace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Stručná charakteristika organizace a zkušenosti v oblasti zaměře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2" descr=""/>
          <p:cNvPicPr/>
          <p:nvPr/>
        </p:nvPicPr>
        <p:blipFill>
          <a:blip r:embed="rId1"/>
          <a:stretch/>
        </p:blipFill>
        <p:spPr>
          <a:xfrm>
            <a:off x="4708440" y="1557360"/>
            <a:ext cx="1400400" cy="190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2"/>
          <a:stretch/>
        </p:blipFill>
        <p:spPr>
          <a:xfrm>
            <a:off x="216000" y="966960"/>
            <a:ext cx="4130640" cy="49464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3"/>
          <p:cNvSpPr/>
          <p:nvPr/>
        </p:nvSpPr>
        <p:spPr>
          <a:xfrm>
            <a:off x="395280" y="2457360"/>
            <a:ext cx="770040" cy="358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5"/>
          <p:cNvSpPr/>
          <p:nvPr/>
        </p:nvSpPr>
        <p:spPr>
          <a:xfrm>
            <a:off x="2071800" y="2494080"/>
            <a:ext cx="874440" cy="2854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4"/>
          <p:cNvSpPr/>
          <p:nvPr/>
        </p:nvSpPr>
        <p:spPr>
          <a:xfrm>
            <a:off x="1195560" y="2644920"/>
            <a:ext cx="874440" cy="144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ealizační tý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88000" y="1088640"/>
            <a:ext cx="40687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zaměřena na informace o realizačním týmu, jak žadatele tak partnera projektu, který se bude na projektu podíl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e seznamu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ových pozic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te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zici manažerskou a administrativní nebo pozici odborn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epiš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ozic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doporučujeme bez jména) a vyber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sub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žadatel/partner). 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pis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stručně popište zapojení konkrétního člena RT v rámc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elice důležitá j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orm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racovní smlouva, DPP, DPČ a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Jednotka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hodina, měsí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ň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počet měsíční/hodinové sazby, Úvazek a Délku působení v RT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pouze u jednotky „měsíc“). U jednotky „hodina“ se vyplní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142920" y="1305000"/>
            <a:ext cx="46990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opis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824000" y="1376280"/>
            <a:ext cx="3862440" cy="39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slouží k podrobnému popisu projektu, charakteristice hlavních cílů, potřebnosti, inovativnosti projektu a definování případných rizik ohrožujících realizaci projektu a návrh řešení odstranění či eliminace případných rizi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šechna pole jsou povin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39272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Klíčové ak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47280" y="4508280"/>
            <a:ext cx="803916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stručně popíše realizaci klíčové aktivity (kroky při naplňování cílů projektu, metody realizace včetně zdůvodnění zvolených metod) v rámci činností spojených s realizací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ktivity projektu by měly být logicky strukturovány a provázány a jejich realizace by měla vést k naplnění stanovených cílů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84360" y="1123920"/>
            <a:ext cx="59036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Cílové skup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35280" y="1088640"/>
            <a:ext cx="439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zaměřena na informace o cílových skupinách, na které se žadatel v projektu zaměří. Cílovou skupinou jsou míněni jednotlivci příp. organizace, pro které je projekt určen (tedy ti, kteří budou profitovat z výstupů projektu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Cílovou skupin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te ze seznam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zba aktivit projektu na cílové skupin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je nutné uvést vazbu mezi KA projektu a potřebami cílové skupiny. Aktivity projektu musí odrážet potřeby cílových skupin, na které je zamě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pis a způsob zapojení cílové skupin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nutné popsat důvody pro výběr cílové skupiny vzhledem k potřebám, zjištěných u těchto skupin. Dále zde popište, jak projekt překonává problémy a zlepšuje postavení CS, způsob zapojení a motivace CS, způsob práce s CS at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204840" y="1305000"/>
            <a:ext cx="43876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armonogram real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76360" y="1052280"/>
            <a:ext cx="392436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postupně zatrhněte rozvrh trvání klíčových aktivit (KA) do měsíců a roků realizace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časování aktivit by mělo být vzájemně a logicky provázáno. Rozmyslete si dobu trvání dané aktivity, tak, abyste měli jistotu, že budete mít dostatek času ji zrealizov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e všechny KA projektu musí být realizovány po celou dobu trvání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verzní naplněn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můžete jednoduše, rychle a hlavně najednou vyplnit všechny měsíce u příslušné KA. Pokud se daná aktivita nebude například realizovat v létě, stačí, když žadatel zruší zatržení daného měsí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216000" y="1233360"/>
            <a:ext cx="4932360" cy="3276720"/>
          </a:xfrm>
          <a:prstGeom prst="rect">
            <a:avLst/>
          </a:prstGeom>
          <a:ln w="0">
            <a:noFill/>
          </a:ln>
        </p:spPr>
      </p:pic>
      <p:sp>
        <p:nvSpPr>
          <p:cNvPr id="129" name="Obdélník 1"/>
          <p:cNvSpPr/>
          <p:nvPr/>
        </p:nvSpPr>
        <p:spPr>
          <a:xfrm>
            <a:off x="216000" y="3789360"/>
            <a:ext cx="161928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ozpočet projektu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750920" y="1142640"/>
            <a:ext cx="4141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řípravě rozpočtu je třeba věnovat maximální pozornost. Náklady musí být skutečně vynaloženy ve prospěch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veřejných prostředků je možné financovat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jenom způsobilé výdaje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Rozpočet projektu aktivujete dvojklikem na jakýkoliv řádek (např. 03.03.01) v tabulce rozpočtu. Do rozpočtu lze přidávat řád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alší pokyny naleznete v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říručce způsobilých výdajů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D5) a v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růvodci vyplněním projektové žádosti z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D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POZOR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Je důležité v rozpočtu projektu </a:t>
            </a:r>
            <a:r>
              <a:rPr b="1" lang="cs-CZ" sz="1600" spc="-1" strike="noStrike" u="sng">
                <a:solidFill>
                  <a:srgbClr val="d1131c"/>
                </a:solidFill>
                <a:uFillTx/>
                <a:latin typeface="Arial"/>
              </a:rPr>
              <a:t>rozlišit náklady žadatele a partnera</a:t>
            </a: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 zapojeného do realizace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3" descr=""/>
          <p:cNvPicPr/>
          <p:nvPr/>
        </p:nvPicPr>
        <p:blipFill>
          <a:blip r:embed="rId1"/>
          <a:stretch/>
        </p:blipFill>
        <p:spPr>
          <a:xfrm>
            <a:off x="351000" y="1089000"/>
            <a:ext cx="43704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ákladní informace</a:t>
            </a:r>
            <a:r>
              <a:rPr b="0" lang="cs-CZ" sz="3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7080" y="1125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Benefit7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- webová aplikace sloužící pro předkládání žádostí o finanční podp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 OP LZZ žadatelem, předkládání monitorovacích zpráv a žádostí o platb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íjemc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de formulář pro vyplnění žádosti o finanční podporu z OP LZZ nalezne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www.eu-zadost.cz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bo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www.eu-zadost.eu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alší důležité informace 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zva pro předkládání GP 3.4 – Rovné příležitosti žen a mužů na tr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ráce a slaďování pracovního a rodinného života (č. 7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ýzvu naleznete na internetových stránkách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www.esfcr.cz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v aplikaci Benefit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 odkazem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4" descr=""/>
          <p:cNvPicPr/>
          <p:nvPr/>
        </p:nvPicPr>
        <p:blipFill>
          <a:blip r:embed="rId1"/>
          <a:stretch/>
        </p:blipFill>
        <p:spPr>
          <a:xfrm>
            <a:off x="503280" y="5189400"/>
            <a:ext cx="781380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ozpočet projektu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35280" y="1088640"/>
            <a:ext cx="439236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 rozpočtu projektu se načítají i osoby z Realizačního týmu (kap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01. Osobní náklad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 Stačí zmáčknout tlačítk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 tabulkou rozpoč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důležité u každého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nenulovéh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ákladu vybrat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ežim podpor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Číselník je pro výzvu č. 76 složen ze dvou možnost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 nepřímé náklady stačí vyplnit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% nepřímých nákladů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automaticky se vypočítá částka ve sloupci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klady celkem (Kč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řádku 10 z pol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klady celkem (Kč)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ýše podílu nepřímých nákladů je vždy stanovena vyhlašovatelem výzvy, nikdy však nebude vyšší než 20% přímých způsobilých náklad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250920" y="944640"/>
            <a:ext cx="4105080" cy="56149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6"/>
          <p:cNvSpPr/>
          <p:nvPr/>
        </p:nvSpPr>
        <p:spPr>
          <a:xfrm>
            <a:off x="3166920" y="6127920"/>
            <a:ext cx="1044720" cy="431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7"/>
          <p:cNvSpPr/>
          <p:nvPr/>
        </p:nvSpPr>
        <p:spPr>
          <a:xfrm>
            <a:off x="258840" y="3787920"/>
            <a:ext cx="3852720" cy="433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2"/>
          <p:cNvSpPr/>
          <p:nvPr/>
        </p:nvSpPr>
        <p:spPr>
          <a:xfrm flipV="1">
            <a:off x="4102200" y="3409920"/>
            <a:ext cx="1225440" cy="4334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2"/>
          <a:stretch/>
        </p:blipFill>
        <p:spPr>
          <a:xfrm>
            <a:off x="5327640" y="3209760"/>
            <a:ext cx="2533680" cy="4003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6"/>
          <p:cNvSpPr/>
          <p:nvPr/>
        </p:nvSpPr>
        <p:spPr>
          <a:xfrm>
            <a:off x="250920" y="1835280"/>
            <a:ext cx="1512720" cy="234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3"/>
          <a:stretch/>
        </p:blipFill>
        <p:spPr>
          <a:xfrm>
            <a:off x="4929120" y="1951200"/>
            <a:ext cx="1476360" cy="16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Zdroje financ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76720" y="1341000"/>
            <a:ext cx="451008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álož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droje financování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se aktivuje po vyplnění záložky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et projekt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povinné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oukromé prostřed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Je možné vyplnit i nulovou hodno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máčknutím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ad financ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se všechny podbarvené pole šedivou barvou vyplní automatic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vygenerování záznam uložte (pomocí tlačítka Uloži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íl finančních prostředků EU a SR je stanoven n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85 : 1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7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3960720" cy="49672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9"/>
          <p:cNvSpPr/>
          <p:nvPr/>
        </p:nvSpPr>
        <p:spPr>
          <a:xfrm>
            <a:off x="2519280" y="3065400"/>
            <a:ext cx="1295640" cy="287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orizontální témata - rovné příležit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27280" y="1780920"/>
            <a:ext cx="425916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všechna povinná pole týkající se problematiky rovných příležitos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třeby vám pomůže samostatná publikace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Horizontální témata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030" descr=""/>
          <p:cNvPicPr/>
          <p:nvPr/>
        </p:nvPicPr>
        <p:blipFill>
          <a:blip r:embed="rId1"/>
          <a:stretch/>
        </p:blipFill>
        <p:spPr>
          <a:xfrm>
            <a:off x="395280" y="1447920"/>
            <a:ext cx="392436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orizontální témata - udržitelný roz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319280" y="1704600"/>
            <a:ext cx="4367160" cy="27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všechna povinná pole týkající se problematiky udržitelného rozvo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třeby vám pomůže samostatná publikace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Horizontální témata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30" descr=""/>
          <p:cNvPicPr/>
          <p:nvPr/>
        </p:nvPicPr>
        <p:blipFill>
          <a:blip r:embed="rId1"/>
          <a:stretch/>
        </p:blipFill>
        <p:spPr>
          <a:xfrm>
            <a:off x="324000" y="1371600"/>
            <a:ext cx="392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3"/>
          <p:cNvGraphicFramePr/>
          <p:nvPr/>
        </p:nvGraphicFramePr>
        <p:xfrm>
          <a:off x="287280" y="1219320"/>
          <a:ext cx="3924360" cy="30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219320"/>
                    <a:ext cx="392436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248000" y="1268280"/>
            <a:ext cx="4608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Záložka je složena ze tří část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1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Osahuje osm textových polí (7 povinných a 1 nepovinné) s dotazy směřovanými jak na žadatele, tak na partnera (partnery)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šechna povinná pole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musí žadatel vyplnit i v případě, že projekt nezakládá veřejnou podpor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ápovědu k jednotlivým polím naleznete v příručce D6 nebo v „Pokynech řídícího orgánu“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tlačítko na levé straně ovládacího panelu)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římo v Benefitu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5"/>
          <p:cNvGraphicFramePr/>
          <p:nvPr/>
        </p:nvGraphicFramePr>
        <p:xfrm>
          <a:off x="287280" y="4186080"/>
          <a:ext cx="3924360" cy="241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280" y="4186080"/>
                    <a:ext cx="3924360" cy="24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0" y="1197000"/>
            <a:ext cx="439272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2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část záložky se generuje po vyplnění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tu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zmáčknutím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Generování částek podpory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kud není rozpočet vyplněn, tabulka se vygeneruje s nulovými hodnotam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bulka je needitovatel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formace o žádané VP/podpoře de minimis.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uvede požadovaný režim podpory, rozdělení VP/podpory de minimis mezi žadatele a partnera/-y projektu, případně třetí osoby at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se pole žadatelů netýká, napište „NERELEVANTNÍ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Uloži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je nutné  vyplněná data ulož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8" descr=""/>
          <p:cNvPicPr/>
          <p:nvPr/>
        </p:nvPicPr>
        <p:blipFill>
          <a:blip r:embed="rId1"/>
          <a:stretch/>
        </p:blipFill>
        <p:spPr>
          <a:xfrm>
            <a:off x="179280" y="1665360"/>
            <a:ext cx="4511880" cy="3543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5"/>
          <p:cNvSpPr/>
          <p:nvPr/>
        </p:nvSpPr>
        <p:spPr>
          <a:xfrm>
            <a:off x="237960" y="3249720"/>
            <a:ext cx="1403640" cy="323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3"/>
          <p:cNvGraphicFramePr/>
          <p:nvPr/>
        </p:nvGraphicFramePr>
        <p:xfrm>
          <a:off x="216000" y="4365720"/>
          <a:ext cx="4500360" cy="195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4365720"/>
                    <a:ext cx="4500360" cy="19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3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část je aktivní pouze v případě, že žadatel zatrhl na záložc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ojekt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Byl jste příjemcem podpory de minimis za poslední 3 účetní období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 případě, že pole žadatel nezatrhl, je tato část záložky neaktivní a nelze do ní zapisov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robné informace o VP naleznete v příručce V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eřejná podpora a podpora de minimis (D7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příruč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Průvodce vyplněním projektové žádosti z OP LZZ (D6)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250920" y="1015920"/>
          <a:ext cx="4392360" cy="324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015920"/>
                    <a:ext cx="4392360" cy="32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Text Box 6"/>
          <p:cNvSpPr/>
          <p:nvPr/>
        </p:nvSpPr>
        <p:spPr>
          <a:xfrm>
            <a:off x="3166920" y="2565360"/>
            <a:ext cx="12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d1131c"/>
                </a:solidFill>
                <a:latin typeface="Arial"/>
              </a:rPr>
              <a:t>Aktivní 3. část zálož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024360" y="5121360"/>
            <a:ext cx="14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9999"/>
                </a:solidFill>
                <a:latin typeface="Arial"/>
              </a:rPr>
              <a:t>Neaktivní 3. část zálož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8"/>
          <p:cNvSpPr/>
          <p:nvPr/>
        </p:nvSpPr>
        <p:spPr>
          <a:xfrm flipH="1">
            <a:off x="3634920" y="4257720"/>
            <a:ext cx="1513080" cy="9000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9"/>
          <p:cNvSpPr/>
          <p:nvPr/>
        </p:nvSpPr>
        <p:spPr>
          <a:xfrm flipH="1">
            <a:off x="4427640" y="2565360"/>
            <a:ext cx="720720" cy="34920"/>
          </a:xfrm>
          <a:prstGeom prst="line">
            <a:avLst/>
          </a:prstGeom>
          <a:ln w="19080">
            <a:solidFill>
              <a:srgbClr val="d113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216000" y="4365720"/>
            <a:ext cx="4500360" cy="1871640"/>
          </a:xfrm>
          <a:prstGeom prst="rect">
            <a:avLst/>
          </a:prstGeom>
          <a:noFill/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216000" y="1052640"/>
            <a:ext cx="4427280" cy="3205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řílohy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08000" y="1341000"/>
            <a:ext cx="4248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e výzvě č.76 je uveden seznam povinných příloh, které musí být součástí předložené žádosti o finanční podpor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vinná příloh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ro výzvu č.76 je pouze jedn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001) Doklad o právní subjektivitě žadate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Maximální velikost jedné příloh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řiložené k žádosti o finanční podporu v aplikaci Benefit7 v elektronické podobě j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3MB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Přílohy větší než 3MB doporučuje uložit na CD-ROM, který přiložíte jako přílohu žádosti o finanční podpo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Maximální velikost celé žádosti je 20MB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tretch/>
        </p:blipFill>
        <p:spPr>
          <a:xfrm>
            <a:off x="395280" y="1015920"/>
            <a:ext cx="4175280" cy="50770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0"/>
          <p:cNvSpPr/>
          <p:nvPr/>
        </p:nvSpPr>
        <p:spPr>
          <a:xfrm>
            <a:off x="431640" y="1449360"/>
            <a:ext cx="2813040" cy="287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Kontrola žád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42920" y="1591920"/>
            <a:ext cx="4141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tiskové sestavě žádosti o finanční podporu je zapracovaná kapitola -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Kontrola žád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dná se o kritéria pro formální hodnocení a hodnocení přijatelnos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</a:t>
            </a: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MUS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o finalizaci žádosti provést kontrolu, kde </a:t>
            </a: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ručně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aškrtá jednotlivá kritéria hodnoc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bude některé kritérium pro něj nerelevantní, zatrhne žadatel pole N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"/>
          <p:cNvPicPr/>
          <p:nvPr/>
        </p:nvPicPr>
        <p:blipFill>
          <a:blip r:embed="rId1"/>
          <a:stretch/>
        </p:blipFill>
        <p:spPr>
          <a:xfrm>
            <a:off x="0" y="1233360"/>
            <a:ext cx="460836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estné prohlášení a podpisová tabu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71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916520" cy="5113080"/>
          </a:xfrm>
          <a:prstGeom prst="rect">
            <a:avLst/>
          </a:prstGeom>
          <a:ln w="0">
            <a:noFill/>
          </a:ln>
        </p:spPr>
      </p:pic>
      <p:sp>
        <p:nvSpPr>
          <p:cNvPr id="185" name="Obdélník 1"/>
          <p:cNvSpPr/>
          <p:nvPr/>
        </p:nvSpPr>
        <p:spPr>
          <a:xfrm>
            <a:off x="4967280" y="2205000"/>
            <a:ext cx="3925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pisová tabulka se žadateli ukáže až v tiskové sestavě žádosti na poslední straně žádosti o finanční podporu (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 Podpis musí být umístěn do samostatného pole, v žádném případě nesmí být přetištěn razítkem nebo být přepsán přes otisk razít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Důležité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8327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Odstávky aplika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lánované i mimořádné odstávky aplikace Benefit7 naleznete na internetových stránkách www.esfcr.cz, odkaz na V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ýzv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a rovněž na titulní straně aplikace Benefit7 www.eu-zadost.cz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lánované odstávky jsou vždy 1. pracovní den v měsíci. V případě, že tento den připadne na pátek je odstávka a instalace nové verze Benefitu7 provedena až v pondělí. Následující odstávka aplikací bude 1.7.2011!!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Nenechávejte si proto finalizaci a odevzdání žádosti na poslední chvíli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Důležité dokumen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Průvodce vyplněním projektové žádosti z OP LZZ (D6), revize 1.6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Dokument naleznete na www.eu-zadost.cz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tlačítko 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Nová žádost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OP LZZ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odkaz výzvy pro žadatel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i="1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tlačítko</a:t>
            </a: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 Pokyny řídícího orgánu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V případě </a:t>
            </a:r>
            <a:r>
              <a:rPr b="0" lang="cs-CZ" sz="1700" spc="-1" strike="noStrike" u="sng">
                <a:solidFill>
                  <a:srgbClr val="143f7e"/>
                </a:solidFill>
                <a:uFillTx/>
                <a:latin typeface="Arial"/>
              </a:rPr>
              <a:t>technických problémů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s aplikací Benefit7 se obracejte na hotline adres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ŘO: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benefit7@mpsv.cz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, do předmětu e-mailu napište 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Hash projektu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(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Kód žádosti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716436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Finalizace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8320" y="1375920"/>
            <a:ext cx="403848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ální uzavření žádosti je posledním krokem žadatele před odesláním žádosti do IS Monit7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alizaci žádosti provedete 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zápatí náhledu žádosti a na 1. straně je uveden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Unikátní klíč žádosti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10-ti místní kód), který je složen ze  dvou část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1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líč žádosti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03mkWP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2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líč verz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0001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orno finalizac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můžete žádost znovu otevřít, provést změny a opět finalizovat. Při tomto kroku se zvýší klíč verze o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6"/>
          <p:cNvGraphicFramePr/>
          <p:nvPr/>
        </p:nvGraphicFramePr>
        <p:xfrm>
          <a:off x="287280" y="3357720"/>
          <a:ext cx="4427640" cy="90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3357720"/>
                    <a:ext cx="442764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8"/>
          <p:cNvSpPr/>
          <p:nvPr/>
        </p:nvSpPr>
        <p:spPr>
          <a:xfrm>
            <a:off x="3132000" y="4005360"/>
            <a:ext cx="757440" cy="323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Object 9"/>
          <p:cNvGraphicFramePr/>
          <p:nvPr/>
        </p:nvGraphicFramePr>
        <p:xfrm>
          <a:off x="611280" y="5270400"/>
          <a:ext cx="424800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5270400"/>
                    <a:ext cx="42480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Rectangle 18"/>
          <p:cNvSpPr/>
          <p:nvPr/>
        </p:nvSpPr>
        <p:spPr>
          <a:xfrm>
            <a:off x="2592360" y="5468760"/>
            <a:ext cx="1008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2"/>
          <p:cNvSpPr/>
          <p:nvPr/>
        </p:nvSpPr>
        <p:spPr>
          <a:xfrm flipH="1">
            <a:off x="3276360" y="4113360"/>
            <a:ext cx="1655640" cy="1368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3"/>
          <p:cNvSpPr/>
          <p:nvPr/>
        </p:nvSpPr>
        <p:spPr>
          <a:xfrm>
            <a:off x="4896000" y="3789360"/>
            <a:ext cx="288720" cy="576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7" descr=""/>
          <p:cNvPicPr/>
          <p:nvPr/>
        </p:nvPicPr>
        <p:blipFill>
          <a:blip r:embed="rId5"/>
          <a:stretch/>
        </p:blipFill>
        <p:spPr>
          <a:xfrm>
            <a:off x="544680" y="1197000"/>
            <a:ext cx="2295360" cy="17812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20"/>
          <p:cNvSpPr/>
          <p:nvPr/>
        </p:nvSpPr>
        <p:spPr>
          <a:xfrm>
            <a:off x="538200" y="2313000"/>
            <a:ext cx="1727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1"/>
          <p:cNvSpPr/>
          <p:nvPr/>
        </p:nvSpPr>
        <p:spPr>
          <a:xfrm>
            <a:off x="1711440" y="2529000"/>
            <a:ext cx="1439640" cy="14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Tisk a předložení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392720" y="1449360"/>
            <a:ext cx="429408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ádost musí být podepsaná osobou oprávněnou jednat jménem žadate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ádost v listinné podobě musí být předložena v požadovaném počtu vyhotovení (1 originál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isty výtisku je třeba pevně spojit (sešít, přelepit a opatřit podpisem a razítke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istinná podoba žádosti včetně příloh musí být doručena v zalepené obálce osobně, doporučenou poštou nebo expresní zásilkou vyhlašovateli výzvy (adresa vyhlašovatele a kontaktní místo jsou uvedeny v textu výzv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3" descr=""/>
          <p:cNvPicPr/>
          <p:nvPr/>
        </p:nvPicPr>
        <p:blipFill>
          <a:blip r:embed="rId1"/>
          <a:stretch/>
        </p:blipFill>
        <p:spPr>
          <a:xfrm>
            <a:off x="250920" y="1015920"/>
            <a:ext cx="4056120" cy="554508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4"/>
          <p:cNvSpPr/>
          <p:nvPr/>
        </p:nvSpPr>
        <p:spPr>
          <a:xfrm>
            <a:off x="1650960" y="1149480"/>
            <a:ext cx="1258920" cy="179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143f7e"/>
                </a:solidFill>
                <a:latin typeface="Arial"/>
              </a:rPr>
              <a:t>Děkuji za pozornost </a:t>
            </a:r>
            <a:r>
              <a:rPr b="0" lang="cs-CZ" sz="3000" spc="-1" strike="noStrike">
                <a:solidFill>
                  <a:srgbClr val="143f7e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Řídící orgán OP L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dělení monitorování a evalu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bor řízení pomoci z E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inisterstvo práce a sociálních věcí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Poříčním právu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28 01 Prah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900" spc="-1" strike="noStrike">
                <a:solidFill>
                  <a:srgbClr val="000000"/>
                </a:solidFill>
                <a:latin typeface="Arial"/>
              </a:rPr>
              <a:t>benefit7@mpsv.cz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ásady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" y="1341000"/>
            <a:ext cx="8218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Benefit7 umožňuj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stý text (případné obrázky, tabulky, grafy do příl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lternativní strukturu textu (číslování, odráž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ůběžné ukládání a t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utomatické načítání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V Benefit7 jso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racované kontroly úplnosti a správnosti vyplněných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racované kontroly pravopi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2536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Titulní strana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Object 8"/>
          <p:cNvGraphicFramePr/>
          <p:nvPr/>
        </p:nvGraphicFramePr>
        <p:xfrm>
          <a:off x="324000" y="981000"/>
          <a:ext cx="7524720" cy="512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981000"/>
                    <a:ext cx="7524720" cy="51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Obdélník 1"/>
          <p:cNvSpPr/>
          <p:nvPr/>
        </p:nvSpPr>
        <p:spPr>
          <a:xfrm>
            <a:off x="2195640" y="3287880"/>
            <a:ext cx="4140000" cy="900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ovéPole 2"/>
          <p:cNvSpPr/>
          <p:nvPr/>
        </p:nvSpPr>
        <p:spPr>
          <a:xfrm>
            <a:off x="6408720" y="3933720"/>
            <a:ext cx="24843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Na titulní straně Benefit7 se nacházejí a průběžně aktualizují důležitá sdělení a novinky (červeně) v rámci OP LZZ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egistrace do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362800" cy="8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obdrží potvrzení registrace d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své e-mailové schrán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, která obsahuj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aktivní klíč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. Kliknutím na tento klíč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aktivuje svůj účet.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 Tuto aktivaci je nutné provést v den registrace, jelikož je klíč platný pouze do 6:00:00 následujícího d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1"/>
          <a:stretch/>
        </p:blipFill>
        <p:spPr>
          <a:xfrm>
            <a:off x="428760" y="1268280"/>
            <a:ext cx="2774880" cy="2556000"/>
          </a:xfrm>
          <a:prstGeom prst="rect">
            <a:avLst/>
          </a:prstGeom>
          <a:ln w="0">
            <a:noFill/>
          </a:ln>
        </p:spPr>
      </p:pic>
      <p:sp>
        <p:nvSpPr>
          <p:cNvPr id="68" name="Line 10"/>
          <p:cNvSpPr/>
          <p:nvPr/>
        </p:nvSpPr>
        <p:spPr>
          <a:xfrm>
            <a:off x="108000" y="2705040"/>
            <a:ext cx="304920" cy="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460440" y="2593800"/>
            <a:ext cx="1411200" cy="222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"/>
          <p:cNvPicPr/>
          <p:nvPr/>
        </p:nvPicPr>
        <p:blipFill>
          <a:blip r:embed="rId2"/>
          <a:stretch/>
        </p:blipFill>
        <p:spPr>
          <a:xfrm>
            <a:off x="2411280" y="966960"/>
            <a:ext cx="6066000" cy="41464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3"/>
          <p:cNvSpPr/>
          <p:nvPr/>
        </p:nvSpPr>
        <p:spPr>
          <a:xfrm>
            <a:off x="4067280" y="4041720"/>
            <a:ext cx="1655640" cy="252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aložení žádosti o finanční podp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14"/>
          <p:cNvGraphicFramePr/>
          <p:nvPr/>
        </p:nvGraphicFramePr>
        <p:xfrm>
          <a:off x="609480" y="1219320"/>
          <a:ext cx="1694160" cy="11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169416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Line 16"/>
          <p:cNvSpPr/>
          <p:nvPr/>
        </p:nvSpPr>
        <p:spPr>
          <a:xfrm>
            <a:off x="152280" y="187812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533520" y="1752480"/>
            <a:ext cx="1590480" cy="236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0"/>
          <p:cNvSpPr/>
          <p:nvPr/>
        </p:nvSpPr>
        <p:spPr>
          <a:xfrm>
            <a:off x="395280" y="5049720"/>
            <a:ext cx="8497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Po levé straně ovládacího panelu naleznete tlačítk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Nová žádos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. Otevře se přehled OP. Po výběru operačního program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OP LZZ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se zobrazí nabídka všech aktuálně vyhlášených výzev pro předkládání žádostí o finanční podporu (grantových, individuálních, projektů technické pomoci) a globálních grantů v rámci OP LZ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2" descr=""/>
          <p:cNvPicPr/>
          <p:nvPr/>
        </p:nvPicPr>
        <p:blipFill>
          <a:blip r:embed="rId3"/>
          <a:stretch/>
        </p:blipFill>
        <p:spPr>
          <a:xfrm>
            <a:off x="2600280" y="907920"/>
            <a:ext cx="5257800" cy="33213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9"/>
          <p:cNvSpPr/>
          <p:nvPr/>
        </p:nvSpPr>
        <p:spPr>
          <a:xfrm>
            <a:off x="4643280" y="2889360"/>
            <a:ext cx="289584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8"/>
          <p:cNvSpPr/>
          <p:nvPr/>
        </p:nvSpPr>
        <p:spPr>
          <a:xfrm>
            <a:off x="5651640" y="3135240"/>
            <a:ext cx="180720" cy="1289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"/>
          <p:cNvPicPr/>
          <p:nvPr/>
        </p:nvPicPr>
        <p:blipFill>
          <a:blip r:embed="rId4"/>
          <a:stretch/>
        </p:blipFill>
        <p:spPr>
          <a:xfrm>
            <a:off x="1233360" y="4464000"/>
            <a:ext cx="6820200" cy="3333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2"/>
          <p:cNvSpPr/>
          <p:nvPr/>
        </p:nvSpPr>
        <p:spPr>
          <a:xfrm>
            <a:off x="1150920" y="4424400"/>
            <a:ext cx="6902640" cy="372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Ovládací prvky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68240" y="1160640"/>
            <a:ext cx="639612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nto žádosti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tlačítko slouží pro rychlý návrat do seznamu žádostí uživatele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Nápověd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pro každou jednotlivou stránku (záložku) projektové žádosti  se zobrazí okno, které podrobněji popisuje význam datových polí nacházejících se na dané stránce. ŘO tuto nápovědu neaktualizuj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kyny řídícího orgánu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 na této záložce nalezne uživatel potřebné a aktuální pokyny k vyplnění žádosti, dokumenty ke změnám v aplikaci a odkaz na hotline adresu ŘO benefit7@mpsv.cz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řístup k žádosti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na této záložce je možné nastavit přístupová práva dalším osobá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pírovat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ímto tlačítkem můžete zkopírovat již založenou/finalizovanou/předloženou žádos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rušit 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– tímto tlačítkem vymaže uživatel celou žádost včetně všech dat v záložkách a příloh. DB obnova odstraněné žádosti není možná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ntrol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spuštění tohoto tlačítka dojde ke zkontrolování správného vyplnění všech povinných pol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lačítko slouží k finálnímu uzavření (uložení) projektové žádosti a přidělení „Klíče verze“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práv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lačítko slouží pro komunikaci mezi vyhlašovatelem výzvy/poskytovatelem podpory a žadatelem/příjemc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tímto tlačítkem se finalizovaná žádost zobrazí v sestavě pro tisk ve formátu *.pdf.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287280" y="1332000"/>
            <a:ext cx="2281320" cy="2700360"/>
          </a:xfrm>
          <a:prstGeom prst="rect">
            <a:avLst/>
          </a:prstGeom>
          <a:ln w="0">
            <a:noFill/>
          </a:ln>
        </p:spPr>
      </p:pic>
      <p:sp>
        <p:nvSpPr>
          <p:cNvPr id="87" name="Obdélník 1"/>
          <p:cNvSpPr/>
          <p:nvPr/>
        </p:nvSpPr>
        <p:spPr>
          <a:xfrm>
            <a:off x="358920" y="1952640"/>
            <a:ext cx="172872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řehled záložek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735280" y="1447920"/>
            <a:ext cx="595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nutné vzhledem k provázanosti záložek, vyplňovat záložky v takovém pořadí, v jakém jsou řazeny v aplikaci Benefit7 (nabídková modrá lišta v levé části obrazovky). V opačném případě může dojít k nenačtení číselníků indikátorů, cílových skupin, typů žadatele, rozpočtu, příloh, at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ři průběžném vyplňování jednotlivých polí a záložek, je nutné změny průběžně ukládat (tlačítko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Uloži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vinná pole v Benefitu7 jsou podbarvena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žlutou barv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robný postup pro vyplnění žádosti o finanční podporu je uveden v příručce Desatera OP LZZ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D6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Od 1. 3. 2011 došlo ke změně zál.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Výběrová řízení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Detaily k VŘ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kument naleznete v Pokynech řídícího orgánu. Změna není popsána v D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468360" y="1015920"/>
            <a:ext cx="2124000" cy="5176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1:06:39Z</dcterms:created>
  <dc:creator>Ing. Janka Gáplovská</dc:creator>
  <dc:description/>
  <dc:language>en-US</dc:language>
  <cp:lastModifiedBy>Kopečná Janka, Ing. (MPSV)</cp:lastModifiedBy>
  <cp:lastPrinted>2008-07-08T14:49:10Z</cp:lastPrinted>
  <dcterms:modified xsi:type="dcterms:W3CDTF">2011-06-06T10:21:44Z</dcterms:modified>
  <cp:revision>714</cp:revision>
  <dc:subject/>
  <dc:title>Projektový manažer OP LZZ v M7+</dc:title>
</cp:coreProperties>
</file>